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05F7-B735-4359-8898-C602AAEE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593F-7E97-4C7A-BA2B-94C9C709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DDC-F782-4E75-9884-8A789C80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9E9B-E846-4B35-9D38-4B50A5A9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58D-F5B1-497F-B109-BE715D39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830-019C-4B0F-8483-DB9D3B84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1E2-3B90-44A2-979E-B6466DFB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68AA-0E95-4A11-911A-E4DE74E4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644-AB86-466F-BFCC-5A5C195E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1AD-29CD-4FF8-A27C-95F8B66A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C9EA-A19C-42F8-A69F-EC558E96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7FDC-9214-4855-93FF-E7B7153E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D588-2F48-4311-AD28-C66A6C85189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01217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學習網站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作業：學習網站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選擇一組網站做功能與特色比較，但每組不能超過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港都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等公務員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國家文官培訓所文官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文建會網路學院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職業訓練數位學習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主計處公務員資訊學習網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小企業網路大學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k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數位學堂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華電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報告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針對每個網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主要功能和服務對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網站經營模式、活動與創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你最欣賞的特色功能或課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最適合你的學習資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以加強之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個網站的比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那個對你比較有幫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1:49:12Z</dcterms:created>
  <dc:creator>Jeanchow</dc:creator>
  <dc:description/>
  <dc:language>en-US</dc:language>
  <cp:lastModifiedBy>Jeanchow</cp:lastModifiedBy>
  <dcterms:modified xsi:type="dcterms:W3CDTF">2010-12-17T11:49:27Z</dcterms:modified>
  <cp:revision>1</cp:revision>
  <dc:subject/>
  <dc:title>101217 學習網站作業</dc:title>
</cp:coreProperties>
</file>